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160-2355-40E2-921A-9624D797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C4A-048C-4795-A551-57FBC83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4EC-AB70-4EFD-B45B-D32D3615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396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2828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396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2828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CEC-7FE4-40A8-9B01-7B5C24F2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50EF-55CA-43B5-881E-9DEAEB20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FA0D-D2A9-4578-A92C-09A17183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E9F2-4270-470E-A83A-9C0B5123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65F-2A4E-4AEA-91F9-5ADFE9E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951F-763D-4558-83F2-31DEE35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2056-EB85-4FFF-AFF8-323524C4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2D7C-D2E7-4E3C-AB8C-014C06C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458-B267-4846-ACD4-6E53784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299F-2D7D-44A2-B41C-923190C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1EC6-9C48-45BB-9481-136152D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C704-AA00-48CE-BCC7-6932F76C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DD6C-7478-435F-BF6B-4F75149C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6396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2828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6396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32828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62D3-BC86-43BC-82C5-06954589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C7D-E72F-46F3-80F7-230C51D1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B56-40D9-4BB1-B999-0D18034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A5C-CB35-4F8C-9A9A-7C3674A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0E6-AE7C-4D98-BFE8-86AAAF1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28F-408B-4C1E-B2A0-59C2B36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558-1ACC-4D42-B3BD-2D25A64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E41-E090-46F2-B5AA-C2BEE14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1FF-9CB0-487C-B4E4-6BB6DBA51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7861-4F66-46BF-A9C7-EADDCD33B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Forte"/>
              </a:rPr>
              <a:t>Sailing into Uncharted Waters</a:t>
            </a: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NC 4-H Study of Positive Youth Developmen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ponsibilities for the Stud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ain support from Extension and partner organizations for conducting the stu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ster knowledge and skills in data collection and management, IRB process,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ain parent consent/youth as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ponsibilities for the Stud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ordinate facility, methods, materials, procedures, people during data collection an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pret results to participating communities and the county i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rget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60 statewide (avg. 60 per distric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resentation from rural, urban, sm.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5% full comple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0 statewide (as many as possi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resentation from rural, urban, sm.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5% full comple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rget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munity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onger links with existing partners (roles/tasks, contacts, shared effort/fun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nks with new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munity i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sibility/perception by decision-makers (roles, programs, expertise, resour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sibility/perception by citiz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rget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erienced/Well-supported 4-H sta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liable, timely community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cess via facilities,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ptive parent, youth popu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Forte"/>
              </a:rPr>
              <a:t>Deeper Water</a:t>
            </a: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Arial"/>
              </a:rPr>
              <a:t>Resources for Implementation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on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tionwide, longitudinal study of 4-H and non   4-H youth (now in Wave 6: 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rveys (paper, online) of youth and parents: health/habits, values, life skills, perceptions of self &amp; others, family &amp; social relationships, service and civic involvement, life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on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tionwide, longitudinal study of 4-H and non   4-H youth (now in Wave 6: 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rveys (paper, online) of youth and parents: health/habits, values, life skills, perceptions of self &amp; others, family &amp; social relationships, service and civic involvement, life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on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orts on groups of 20+ y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llaboration of 4-H programs with Tufts University, funded by National 4-H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rpose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tter understand youth development and youth programming eff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ve youth development focus (achievement, service, relationshi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rrelations of family and community involvement with positive outco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ts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-depth &amp; ongoing data about youth development and youth programming eff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pportunities to contribute to the most extensive research ever conducted on P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pportunities to collaborate/enhance collaboration and reputation with community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ts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fessional growth in evaluation and research skills, with opportunities to report results in multiple ven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pportunities to introduce (or expand perceptions of) 4-H and recruit youth, volunteers, sponsors, or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 data benchmarks for programming, grant applications, current &amp; future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ource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ining and operational resources in project development, recruitment, parent consent, data collection, and marketing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ource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ultants available at the state 4-H office, national project coordinator, researchers at Tufts (plus links to agent-facilitators nationwi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centives for leaders, partners and participating y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1:42Z</dcterms:created>
  <dc:creator>bsillim</dc:creator>
  <dc:description/>
  <dc:language>en-US</dc:language>
  <cp:lastModifiedBy>bsillim</cp:lastModifiedBy>
  <dcterms:modified xsi:type="dcterms:W3CDTF">2008-01-10T16:10:25Z</dcterms:modified>
  <cp:revision>88</cp:revision>
  <dc:subject/>
  <dc:title>Slide 1</dc:title>
</cp:coreProperties>
</file>